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4A8B-8B5F-4BB3-96F1-A7347DDCD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7EDD-3EFD-4746-9C1F-D9A1BE72F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D997-AFB0-4356-BB14-82885DDCD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0843-B1E4-4532-91D5-70462284E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5C4F8-4057-41FE-8C35-0B4367CB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B23B4-5A1B-4942-87D5-59AC85A7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C41DD-521E-4611-877E-EF3D1BA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8225B-964A-431C-9E80-D5FCAD43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AAC93-212B-4852-A156-FA2A44B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E77EA-E199-42C5-AA82-6BD0A9F7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D10D-FC50-4064-91E7-890B522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9A32-6A21-4D4B-8C8B-92A86F085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B2D64-1563-4379-B30D-15E6490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63A0-6C55-4001-8630-BE43DE4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FBD6-502E-4A94-87C3-063DD6AC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63A7E-4753-4F41-A1D4-FC89FE83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B193-6D99-4479-9104-D976E114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BC78-A43C-4B24-BF57-2FA116E35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C1F-EF65-4B78-84BC-CE98901A3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02BA-1701-41F9-AF12-CAC1C2044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91F4-97DC-4F05-B0EB-68684D1EA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8408-C71A-4B62-86BF-53E383865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BC44-3A87-4634-B982-F3828F9E1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5C99-2E65-4081-95CF-1F1B423A1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38680"/>
            <a:ext cx="8164440" cy="30193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6692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533520" indent="-533520">
              <a:spcBef>
                <a:spcPts val="4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533520" indent="-533520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533520" indent="-5335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501040" y="6629040"/>
            <a:ext cx="7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DA7-BF0A-4EC4-B2E7-894F82635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553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838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2FB-312D-4DE2-9BE7-F7A47B3E567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647-F019-4AE8-8779-5497A7079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2120" y="1904760"/>
            <a:ext cx="868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GB" sz="4400" spc="-1" strike="noStrike">
                <a:solidFill>
                  <a:srgbClr val="ff0000"/>
                </a:solidFill>
                <a:latin typeface="Comic Sans MS"/>
              </a:rPr>
              <a:t>i-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br>
              <a:rPr sz="2800"/>
            </a:b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teractive workflow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or the WWWEB</a:t>
            </a:r>
            <a:br>
              <a:rPr sz="2800"/>
            </a:b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___________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19560"/>
            <a:ext cx="8305920" cy="83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Rinus Plasmei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of Nijmege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ww.cs.ru.nl/~c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V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[Int]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1320" y="2498760"/>
            <a:ext cx="5962680" cy="39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B683-E9A2-4908-B7FB-2358BFF56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:: String a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makes an edit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n interactive 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gForm {|*|}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Upd  {|*|},  gParse  {|*|}, gPrint  {|*|},  gerda  {|*|}, TC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 requires the instantiation of several generic functions for type "a" e.g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tml form creation, handling, parsing, printing, data storage, function storage, 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ich can all, on request, automatically be derived by the compiler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ptions can be set: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3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b 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Task a 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setTaskAttr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Lifespa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atabas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Fil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essio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Pag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em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orageForma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aticDynamic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Plain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Ed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ubm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isplay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EBFD-9355-4A50-8005-E5E38958F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, Submit, Databa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abas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FFF9-8FFB-4A10-B605-9DC9A50ED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ing of tasks / prompt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quencing / composition of tasks (monadic styl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l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turning plain values as a Task value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mpting as long as / as soon as a task is activated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!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0812-7C1F-4DFF-A7A8-6CBE85AAC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e of i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00"/>
                </a:solidFill>
                <a:latin typeface="Comic Sans MS"/>
              </a:rPr>
              <a:t>sumIn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Task Int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um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[Txt "+", Hr [] 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cc66"/>
                </a:solidFill>
                <a:latin typeface="Comic Sans MS"/>
              </a:rPr>
              <a:t>!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84840" y="2205000"/>
            <a:ext cx="31050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DAB5-B54D-474E-A624-59D309CAF3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tml co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Clean Algebraic Data Type (ADT) is defined isomorphic with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ides a grammar only allowing syntactic "correct"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pe error otherwi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generic function is used to generate Html code out of 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BodyTa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ncor &lt;a&gt;&lt;/a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bb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bbreviation &lt;abbr&gt;&lt;/abb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cronym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cronym &lt;acronym&gt;&lt;/acronym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ddres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ddress &lt;address&gt;&lt;/address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l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pplet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pplet &lt;applet&gt;&lt;/applet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re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rea_Attr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rea in an image &lt;area&gt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bold &lt;b&gt;&lt;/b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String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plain tex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derlined text &lt;u&gt;&lt;/u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l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Ul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ordered list &lt;ul&gt;&lt;/ul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Va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variable text &lt;var&gt;&lt;/va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0074-0F9F-4FCD-88AF-A8DFDCE52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35160" y="3618000"/>
            <a:ext cx="591984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320" y="1378080"/>
            <a:ext cx="6553080" cy="358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38440" y="255600"/>
            <a:ext cx="5416560" cy="31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8571-0693-434A-B277-4E276AF53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ll kind of task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oop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forever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1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m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mchoiceTask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 task, do all in any order, finish as soon as one complet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3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d task, do all in any order, and finish when all comple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&amp;&amp;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4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(a,b)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 &amp; iData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nd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reat user defined function as a new task: enables recurs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String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F69D-429B-4B68-921B-69F5E0E9C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nfCoffe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reverTask_GC 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ask (String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"Choose product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Coffee: 100",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off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appucino: 1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50,"Cappucino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Tee: 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50, "T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hoclate: 10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hoclat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toPay, product) -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Chosen product: " &lt;+++ product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0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cancel, returnMoney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&gt;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le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product =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ancel "Cancelled" product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product = " &lt;+++ nproduct &lt;+++ "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turned money = " &lt;+++ returnMone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hanks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product, returnMoney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F4C-32B0-4A03-A403-4C9619CFD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Int, Int) -&gt; Task (Bool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paid)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getCoins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To pay: " &lt;+++ toPa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[  (i +++&gt; " cts"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i)) \\ c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Cancel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0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ancel,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cance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paid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toPay - coin &gt; 0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 - coin, paid +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otherwi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coin - toPay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5, 10, 20, 50, 100, 200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435E-55B0-4FEC-B24F-68CC745EB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omic Sans MS"/>
              </a:rPr>
              <a:t>Clean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te-Of-The-Art Pure Functional Programming Languag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zy, pure, higher order functions and types, lots of featur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–  de-facto standard (GHC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ome small syntactical and semantical differences, design cho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has no GADT'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xtr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facilities in Clea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I/O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Uniqueness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Monad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Re-usage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Generic programm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ncluded &lt;-&gt; Generic Haskell preprocess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Hybrid typing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Static as well as Dynamic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poor man's Dynamic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Type safe plug-in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Compiler is much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as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r (4</a:t>
            </a:r>
            <a:r>
              <a:rPr b="0" lang="en-GB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place language shootout, after 3 C compilers 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 third party Haskell -&gt; Clean compil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/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ode can be combined in next Clean rele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0476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24B4-BBF2-4D82-8068-CE74CF473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18080" y="928800"/>
            <a:ext cx="4541760" cy="56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BB01-6FFB-49A0-9A31-F117274CA3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4521240" cy="5638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1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9EA5-2F8A-438B-9FD6-FA76B3543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ulti-user 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String,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)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A62A-4F7F-4BD1-ADC6-BA13B3A8A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viewState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Cancell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TextArea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raf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Review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v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 [toHtml v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[ ("Rework",  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(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createDefault)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Approved",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Reject"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Reject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7F25-5CF1-4237-9D4D-845F9AB816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a,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a)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(a, Review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l, task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ToReview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ask val 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newval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ewva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review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Reviewer " &lt;+++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+++ " says ") , toHtml review, Br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OK" Voi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ca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review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_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task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lse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2639-D653-431E-825D-310D5F98D3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QForm =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{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toComp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start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nd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stimatedHours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escription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extAre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pric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al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:: Task (QForm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1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reateDefault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v = [Txt "Fill in Form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Done" v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D8B3-CFB2-4765-9CD8-C9CEB25AF4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igher-Order 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asks not only deliver values, they may deliver a task under development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Closure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Closur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aybe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Jus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a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th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Task variant: a task is either finished, or interrupted if the stop task is finished soon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4  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stop) (Task a) -&gt; (Task (Maybe stop, TClosure a)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stop &amp; iData 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841A-6E01-43D1-BBBE-A62C3310C6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278160" cy="2495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548160" y="898560"/>
            <a:ext cx="3321000" cy="24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320" y="3916440"/>
            <a:ext cx="3238560" cy="2536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354480" y="3691080"/>
            <a:ext cx="2703600" cy="2762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219720" y="3691080"/>
            <a:ext cx="270360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988C-4BB4-405B-8C0D-28254ADBCF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Task a) [Int]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delegateToSomeone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Waiting for " &lt;+++ wh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I Will Do It“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who)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 \\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et 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99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stopped,TClosure task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isJust stopped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) task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stop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top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op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Stop“,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rue)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A1EF-A914-4A21-B931-615BEF8126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clusions  and Future Wor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-38916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act notation, many details are handled automati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y intuitive for functional programm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others programmers ??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l "standard" workflows patterns off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raphical workflow diagrams can be translated to iTasks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ffers a lot of additional expressive 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re complicated real world workflow situations can be defin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ly re-usable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ow applicability via larger real world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eb sho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nference management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bine with Client sid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interpreter running in browser, “Ajax” technolog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grate with main stream web development tools (Dreamweav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7F47-FEC0-43FF-9624-DBB1C5A837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y workflows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W project “Demand Driven Workflows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pproach on specifying workflows making use of "lazy evaluation"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niversit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U Eindhoven (Van der Aals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adBoud University Nijmegen (Plasmeijer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dustr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las Athena (Eindhove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Z (Utrech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IA (Nijmegen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-Task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"Simple" approach to make a quick star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ready offers more functionality than commercial systems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1CFD-3019-423F-8598-0AE640276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udy “Workflow Patterns”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n der Aalst, ter Hofstede, Kiepuszewski, Barr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gt; 30 product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taffware, Cosa, InConcert, Eastman Software, FLOW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omino Workflow, Meteor, Mobile, MQSeries, Forte Conductor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ve, Visual WorkFlo, Changengine, I-Flow, SAP R/3 Workflow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patter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equence, recursion, exclusive choice, multiple choice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plit/merge (parallel or, parallel and, discriminator), ..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Workflow Patterns can "straightforwardly" be implemented in Cle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i-Dat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Clean library for handling interactive web for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generic functio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highly reusable functions, given a type th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enerate a (typed) html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al with a change made by a user in a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nable separation between model (value returned) and view (the look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tomatically store and retrieve info in a file or datab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7E4E-9203-4DA7-BA62-F46CF0F89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is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 nice graphical interface for defining workflows: just Clean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first version, limited interfaces to real world, lots of additional wish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clarative, executable specific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statically typed, input type checked as wel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ly reusable code: polymorphic, overloaded, generic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dynamically construc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low can depend on the actual content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ully compositiona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er order: a workflow can be a workflow -&gt; shift work to someone el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t generates a multi-user web enabled (!) workflow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&lt; 1000 lines of code based on Clean’s i-Data library for the we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47E7-5506-4345-9126-D9D827F22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57640" y="308124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F2CD-40A4-4BDC-BB2F-454B6F1A2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(Int, Real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36960" y="309240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ADAC-DD6F-4196-A8F1-60B41663E1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Person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{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re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umbe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zipC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ow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or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HtmlDat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Form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Upd 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arse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rint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erda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019240"/>
            <a:ext cx="451476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2B81-4B15-47C3-ABE9-975B475496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 Submi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E4D9-2EED-465D-81EE-DE70FDC0E7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2:01:42Z</dcterms:created>
  <dc:creator>rinus</dc:creator>
  <dc:description/>
  <dc:language>en-US</dc:language>
  <cp:lastModifiedBy>rinus</cp:lastModifiedBy>
  <dcterms:modified xsi:type="dcterms:W3CDTF">2007-05-20T09:50:00Z</dcterms:modified>
  <cp:revision>1532</cp:revision>
  <dc:subject/>
  <dc:title>  i-Tasks  - interactive workflow tasks  for the WEB ___________   WORK IN PROGRESS  </dc:title>
</cp:coreProperties>
</file>